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167853"/>
        <c:axId val="72181491"/>
      </c:barChart>
      <c:catAx>
        <c:axId val="2916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181491"/>
        <c:crosses val="autoZero"/>
        <c:auto val="1"/>
        <c:lblAlgn val="ctr"/>
        <c:lblOffset val="100"/>
        <c:noMultiLvlLbl val="0"/>
      </c:catAx>
      <c:valAx>
        <c:axId val="721814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16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9657-F8A5-4F1B-9912-37AD985E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5F5-CC82-4E53-AAE5-7886CD3D6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B25F-9938-4BBF-90DF-20A5792B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62B4-BF93-483D-9DAB-8D2DFC771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3641-CCFE-44B1-AF8F-929A9DAD8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EDAE-9809-4834-ACDA-1C96C930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6F1C-1BD6-45E2-AEBA-01547E9B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2DFD-1EF7-40A0-BE38-F2DB3E71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12AE-CFD7-4868-95AB-E4B81CDFB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A223-08BD-4F50-A9F2-E4688F8E3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715C-9A3C-4FA8-A1FE-9AD30E09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5C42-FC03-4C17-A0BE-A52E2B02D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452DB-153A-4C87-80D9-043C1461C6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