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91710"/>
        <c:axId val="34644456"/>
      </c:barChart>
      <c:catAx>
        <c:axId val="17891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4456"/>
        <c:crosses val="autoZero"/>
        <c:auto val="1"/>
        <c:lblAlgn val="ctr"/>
        <c:lblOffset val="100"/>
        <c:noMultiLvlLbl val="0"/>
      </c:catAx>
      <c:valAx>
        <c:axId val="34644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91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8F3-4AED-48DB-A7E0-955408D6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4EF-3A62-444F-A4B0-6B4235A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3C4-3CA5-4B00-A6FE-EF402D7D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71D-DFB9-4ECD-A1C8-122640D4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41A-DF4F-4C86-B4FB-BDE5565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381-8142-451A-BFBD-C19A96D6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437-D577-4B48-AA13-B7002AC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1CA-B0C0-4096-8A65-E45E270F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7F8-E076-403B-8AA2-F510614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8C5-C06B-4533-9DE5-E47B5A0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47B-F92F-4B3E-BDA1-9D8EFFB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CFC-527F-4382-943D-B144B23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07235-45DE-45B3-A301-62FDA4CC45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