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32607"/>
        <c:axId val="58230212"/>
      </c:barChart>
      <c:catAx>
        <c:axId val="80932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30212"/>
        <c:crosses val="autoZero"/>
        <c:auto val="1"/>
        <c:lblAlgn val="ctr"/>
        <c:lblOffset val="100"/>
        <c:noMultiLvlLbl val="0"/>
      </c:catAx>
      <c:valAx>
        <c:axId val="58230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32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050-3769-4D29-AEC1-7C8C5F67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6DE-2A3E-4AD2-9660-BFFF3129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4CB-D055-496A-A0DE-3EBE4ACE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75F-CE59-47F9-A8B1-398A9CE4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63C-B552-479F-AC75-C2C6D056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82B-F839-40AA-A424-F7A319F1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E26-E65A-40E3-BE3E-AF7ED631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AA1-E327-41D1-8465-639F12D2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3DD-51BD-48EE-83EB-D5D3D796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CF3-7934-4E37-995D-76ED3EBC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799-918B-4899-BF10-7E989D0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CF9-5C39-4BF3-A32C-92A1C90E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F7F71-502E-4831-9718-E66C76FDCC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