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065900"/>
        <c:axId val="87314028"/>
      </c:barChart>
      <c:catAx>
        <c:axId val="940659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14028"/>
        <c:crosses val="autoZero"/>
        <c:auto val="1"/>
        <c:lblAlgn val="ctr"/>
        <c:lblOffset val="100"/>
        <c:noMultiLvlLbl val="0"/>
      </c:catAx>
      <c:valAx>
        <c:axId val="873140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0659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E10E-2E4F-47E6-A13C-1840B17B8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3C94-7CE7-43E6-8885-6E7F8CC4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491D-5ECD-4D2D-8472-AC184C713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6E4E-0E87-4712-9F2D-4AD50D191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4CE1-635D-469E-AF90-3F37D8FB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F4A8-CCC0-47C4-9E16-38FB7F0E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ACC5-45E6-4D31-907C-99E8EE45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8F65-A68E-4682-82D1-829D3B77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5263-49A0-4816-AA14-D7929A05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74D0-5760-4BAB-B7BC-AF49D600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214B-E607-4097-BAB2-045B46DD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6C26-77B8-48AC-A4EE-860908C4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DFC20-F9E3-4ED5-BD4A-0DC881725F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